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EF6-211E-4AEE-B40B-19729F0E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A91-5AFA-4A51-9D23-A66C1E47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524-DD4C-4936-B36F-4AA47747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171-C63E-4F27-B6DC-836032B0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580-2A6A-45B2-ADBE-1B182870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59D-C908-461D-A7BB-475B68F7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178-E5AE-45F0-9AF6-7ED5DAEF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19A-ADFA-4A9C-9ABD-9C26F664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81D-6F39-406B-A584-CDC8548A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E4E6-685A-462B-898F-99CD39B6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8D0-30F1-4AF9-AD75-993EF861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04D-CB2E-4478-91AF-11E5A482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9C2E-EC31-4E12-BB3F-8ADDE89B1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13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92512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48120" y="30492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rte"/>
              </a:rPr>
              <a:t>The Nine Crus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6:10:19Z</dcterms:created>
  <dc:creator>Wingar95P</dc:creator>
  <dc:description/>
  <dc:language>en-US</dc:language>
  <cp:lastModifiedBy>Wingar95P</cp:lastModifiedBy>
  <dcterms:modified xsi:type="dcterms:W3CDTF">2010-02-12T14:47:14Z</dcterms:modified>
  <cp:revision>8</cp:revision>
  <dc:subject/>
  <dc:title>Slide 1</dc:title>
</cp:coreProperties>
</file>